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3.png" ContentType="image/png"/>
  <Override PartName="/ppt/media/image5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68CF-410B-46DE-ACCE-065CBC24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1D73-2E4F-4539-9B86-7CC0B5D6B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45DE-E77E-45C6-A6FB-C0A5592CA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046F3-B7DC-471E-BEFC-E8D053E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063379-D0AD-4970-9F74-27CB8F5A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3782DE-5C62-43B7-830A-8F80C070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C4A2C8-5ABF-4D3A-81B0-F37EA496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630E34-F1F8-4F64-9253-0224558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9D53F-A7D3-4AA5-9054-ABCE0BB6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F261C6-99DC-40F6-9DBE-C8859A6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307C99-2320-4F35-9444-FB5DEF1C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09DE25-12B5-4231-8C6E-59DA6C86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D268E-FD39-48EB-B295-1F828678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909A9E-6BBC-4405-8BE9-51DF2A8C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9F669-6B60-42AE-9D4E-54326B9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27340F-2B37-4DE3-81E2-86A25D9A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E6C016-56A6-49BA-ADED-CBF3FCA4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935D1D-93D4-4A83-8031-0C8FE9C6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28D25-1692-4FD1-B3ED-022D891E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58729-A0B1-4097-9EE8-4AE1837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36D0EE-3D83-47CF-A940-20272FE8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F220A-5D4F-410B-8CC2-4259C21B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CB98A9-1E8A-4591-BC33-3D0B2E37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ED8F6B-6F7B-4408-95A8-8486E0D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EAD2F7-3014-4C30-A0C4-B4FFC26C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32AE62-303F-469C-B10C-4D5ED2E8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9137D3-1A82-4F84-84FE-893CD879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7471CA-F529-4B0A-8B5C-25C5DBD9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6BC8B1-CF78-4721-8132-8D866116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062457-A1F9-4B71-88C3-DF644966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E2F5EF-4ACD-428F-8A7A-E0F44159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400F6B-D610-47D3-B00F-87ABACD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D3FAC8-D5F8-4042-BAC1-B53992EA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29A-1AA5-4BD1-B644-674FC751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D9973B-E9B2-481D-AB14-778B896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D8CF14-EEA8-4905-9209-1AF1E234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D7A06E-211D-43CD-A6A8-7294C5C2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D2DA67-16A0-4141-8C2D-39ACDE2D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1DF4D-77E9-4FDF-88AD-BF2D6B06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23F299-4560-40F9-A637-4E693318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AC5AB5-8572-4071-8290-C5DE76AF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C50E83-9352-4449-B959-6D10C3C8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7A968A-5EA2-468A-80A9-DD5ABB19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057E78-EDA2-4152-8AED-10E1227A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E7A-351E-4977-A1AF-9576005E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8B5C66-E1F5-4A59-BDBC-1FBEFDC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1F9F76-6298-459B-B22A-C857ED1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891914-0620-420B-86E5-183C382E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263A4D-2AE6-4647-AC2F-691573DE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AF0B3D-C1A7-470F-866F-274444BA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65E-E690-44F2-876A-B8EA3603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B5F-8378-4C89-8D4C-81245CF8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96D-C06D-41E6-99EB-F8F615C1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F11-FF3D-4B3A-9E54-7897BD58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A25-8377-47D4-AF6C-0F39EEFB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655-E91D-45BA-8A33-D7146258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F2E-7F9D-494D-8F9D-8CB621F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6AD-BF7E-4757-BE24-7AF3AA79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BE8-CCD7-4489-BF25-13095156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6CA-DC82-4BC3-AB54-84153932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2EE69-83A3-4C89-978F-7E9BD6A418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6BD32-BBF9-42E1-9EE8-5ADB644C86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EDAFF-4CD7-4983-A1E4-1CBFFAE1C6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A91FD-8E44-4D94-BC07-91573D748D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26BDC-ABAB-4240-A609-5C937E317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B1521-1733-4D37-91AC-A1128E5698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D9215-57C9-4D10-9AF1-741667E41A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33602-D391-4AD0-92B9-FDD24A728A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2F1B4-BF53-4161-8220-FA9BC36144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F12B9-765C-4E47-87C3-ACC8B7A609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8F3EE-F010-4E09-A844-42D1471FFC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330F5-D3A4-41D2-8323-E69A7B75BE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8F72B-8332-4AA3-AA86-B01AAC12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16FC1-A3A8-4922-9110-6C9CA36E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7FC2D-B91C-424A-9AA7-390F2F4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D41A1-80EE-4409-AF39-1E735BBF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3E187-4871-4AD3-A084-A456C037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51786-1AA0-4DD7-ACFE-FC2298BF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27293-8272-4C63-8AD2-62A10D2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7E25E-B43A-447B-9753-34534423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90E70-B261-4565-BA50-ECDF6646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7F2C9-A8F0-4C5B-B00E-502D1969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2831E-6B44-464B-943D-FAABAD88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6061C-C8C9-45A4-9224-95892F92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D20D0-9D3D-40AC-9AE4-732EF286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5366C-01C1-40F5-8819-B497953B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6A1E2-0BE4-4F3E-86C6-5770E7E8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F7D6C-DD68-491C-95BF-659A8A2B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1D9BC-3EFE-43AE-907E-01759B79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D779D-F36B-45B1-88CA-2DEFF28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65C59-E270-46BF-877E-4D9552C9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A359D-0FF4-4E6B-B4F6-64C56CD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39DA1-8EB7-4A22-B93D-5B18C3E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4656A-35DE-4534-AA21-E14491A2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01BAC-0887-489E-8E50-0DCC111C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05D4E-BC02-474D-9407-91AFC21D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855B7-A2F6-4B14-9E3C-157FFE1C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C28C4-9D67-4AA8-A4AF-3950E89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8EA70-9791-471C-8DEC-0DFD743B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B539B-895F-4316-B1C7-1C830A08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A4F20-A028-44CE-9A15-EB901CE4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E3DAC-190A-49DC-86C3-E9F5FADC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72BD3-373A-4EFD-8F61-A4D8399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346EB-BC22-42F3-B5A2-61DE13E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16FEB-17BE-40B5-BFA3-7EC5B40E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42D65-7519-49EA-910D-467684B9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B4763-E196-4FC1-AE62-B6249D06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03265-480F-4D24-BD2B-4C98DB28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4A71A-959F-4F4A-A539-C6CD4744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11736-B2FE-46CF-B628-79B706D3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205DB-68ED-4DCA-9C71-433A554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820D7-82F8-487E-8AEA-88E872F4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144FB-938D-4981-9E03-18BF385C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76581-02BC-496F-BF3E-D8851000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2F33E-609F-4D05-8D58-CEE2C4A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43383-F858-4023-965E-9A8D523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E3E9B-B631-46E4-8AD9-531A100C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57BC0-4293-4377-9846-57308513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02253-789B-4930-B9E1-7967A042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36193-4C9C-453F-8F16-10B87961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9B90B-8DC5-47F3-8B7A-792C3DED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FC72C-A317-41FA-8F03-EF699C3B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9E729-4F8B-403F-A266-18C684DB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2D07F-E0F5-4FE5-BD08-EAF5167E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B7FD6-493F-4148-83FD-9E3507DD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B33A0-13E5-44A4-9FDE-D9F67375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28D86-6F6E-47B4-959C-2B4670A8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A6BBF-2CC2-4AF9-A1C6-9161B122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336EC-8FF3-484F-B964-CC509EAD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52280" y="40852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95E37-5E51-47C5-B6E8-16B4E629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5228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1800" y="40852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E0640-2632-4BB5-8E57-409687F3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522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4100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30080" y="40852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95AA3-9CAA-4843-BF75-AD386AB3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193036-45B5-4D83-A8E3-8B5B67BC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CA0DE6-94E3-40FF-98B7-C08EADD3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9B289-9DF9-4EB9-AC2C-10ADEA71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D4BE-CA0D-47AB-8081-4410B7F939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4A26-5AE4-4A46-97BF-89E7E05CA2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6E92-78FB-44AE-97BF-0959C867B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8424-A56A-426C-9198-EC3F16FFA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D:\jzq\TALK02\dcgi_bw2.bmp"/>
          <p:cNvPicPr/>
          <p:nvPr/>
        </p:nvPicPr>
        <p:blipFill>
          <a:blip r:embed="rId2"/>
          <a:stretch/>
        </p:blipFill>
        <p:spPr>
          <a:xfrm>
            <a:off x="203040" y="6305400"/>
            <a:ext cx="99540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D:\jzq\TALK02\cvut-logo-bw2.png"/>
          <p:cNvPicPr/>
          <p:nvPr/>
        </p:nvPicPr>
        <p:blipFill>
          <a:blip r:embed="rId3"/>
          <a:stretch/>
        </p:blipFill>
        <p:spPr>
          <a:xfrm>
            <a:off x="8264520" y="6280200"/>
            <a:ext cx="663480" cy="501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723852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A333-4A4A-4AA6-A373-15601ECD0B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BD4B-0A78-484B-AA16-1AF012A793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F5BF-A42D-44DB-85DF-DA7172D992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63BC-7A9B-49FD-8DA1-BC27B23D43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655A-518A-40F8-A819-8DA6A82FA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7265-B81F-4F87-B8CE-000D820C10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CG 2010  -  Interactive Ray Tracing of Distanc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C17-E8B5-4B71-B211-CFF6BD74E7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1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1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active Ray Tracing of Distance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d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řej Jamriš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Supervised by: Vlastimil Hav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zech Techn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 Pra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y-surface inter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y                             intersects the surface at roots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4" descr="addin_tmp.png"/>
          <p:cNvPicPr/>
          <p:nvPr/>
        </p:nvPicPr>
        <p:blipFill>
          <a:blip r:embed="rId1"/>
          <a:stretch/>
        </p:blipFill>
        <p:spPr>
          <a:xfrm>
            <a:off x="1298520" y="1333440"/>
            <a:ext cx="1941480" cy="3445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addin_tmp.png"/>
          <p:cNvPicPr/>
          <p:nvPr/>
        </p:nvPicPr>
        <p:blipFill>
          <a:blip r:embed="rId2"/>
          <a:stretch/>
        </p:blipFill>
        <p:spPr>
          <a:xfrm>
            <a:off x="8005680" y="1322280"/>
            <a:ext cx="974880" cy="344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D:\jzq\df.png"/>
          <p:cNvPicPr/>
          <p:nvPr/>
        </p:nvPicPr>
        <p:blipFill>
          <a:blip r:embed="rId3"/>
          <a:stretch/>
        </p:blipFill>
        <p:spPr>
          <a:xfrm>
            <a:off x="685800" y="20574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599" name="Straight Connector 8"/>
          <p:cNvSpPr/>
          <p:nvPr/>
        </p:nvSpPr>
        <p:spPr>
          <a:xfrm flipV="1">
            <a:off x="685800" y="2819160"/>
            <a:ext cx="37339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0" name="Straight Arrow Connector 15"/>
          <p:cNvCxnSpPr/>
          <p:nvPr/>
        </p:nvCxnSpPr>
        <p:spPr>
          <a:xfrm flipV="1">
            <a:off x="636120" y="4071600"/>
            <a:ext cx="71784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1" name="Oval 16"/>
          <p:cNvSpPr/>
          <p:nvPr/>
        </p:nvSpPr>
        <p:spPr>
          <a:xfrm>
            <a:off x="619200" y="4294080"/>
            <a:ext cx="109440" cy="106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23"/>
          <p:cNvSpPr/>
          <p:nvPr/>
        </p:nvSpPr>
        <p:spPr>
          <a:xfrm>
            <a:off x="5029200" y="2819520"/>
            <a:ext cx="3708360" cy="20872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25"/>
          <p:cNvSpPr/>
          <p:nvPr/>
        </p:nvSpPr>
        <p:spPr>
          <a:xfrm flipH="1">
            <a:off x="5103360" y="2287440"/>
            <a:ext cx="3240" cy="2895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28"/>
          <p:cNvSpPr/>
          <p:nvPr/>
        </p:nvSpPr>
        <p:spPr>
          <a:xfrm flipH="1" flipV="1">
            <a:off x="4952520" y="4419720"/>
            <a:ext cx="38862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Group 43"/>
          <p:cNvGrpSpPr/>
          <p:nvPr/>
        </p:nvGrpSpPr>
        <p:grpSpPr>
          <a:xfrm>
            <a:off x="2730600" y="3416400"/>
            <a:ext cx="4013280" cy="1079280"/>
            <a:chOff x="2730600" y="3416400"/>
            <a:chExt cx="4013280" cy="1079280"/>
          </a:xfrm>
        </p:grpSpPr>
        <p:sp>
          <p:nvSpPr>
            <p:cNvPr id="606" name="Oval 39"/>
            <p:cNvSpPr/>
            <p:nvPr/>
          </p:nvSpPr>
          <p:spPr>
            <a:xfrm>
              <a:off x="2730600" y="34164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Oval 41"/>
            <p:cNvSpPr/>
            <p:nvPr/>
          </p:nvSpPr>
          <p:spPr>
            <a:xfrm>
              <a:off x="6604200" y="43560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Group 44"/>
          <p:cNvGrpSpPr/>
          <p:nvPr/>
        </p:nvGrpSpPr>
        <p:grpSpPr>
          <a:xfrm>
            <a:off x="3467160" y="3117960"/>
            <a:ext cx="4286160" cy="1377720"/>
            <a:chOff x="3467160" y="3117960"/>
            <a:chExt cx="4286160" cy="1377720"/>
          </a:xfrm>
        </p:grpSpPr>
        <p:sp>
          <p:nvSpPr>
            <p:cNvPr id="609" name="Oval 40"/>
            <p:cNvSpPr/>
            <p:nvPr/>
          </p:nvSpPr>
          <p:spPr>
            <a:xfrm>
              <a:off x="3467160" y="31179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Oval 42"/>
            <p:cNvSpPr/>
            <p:nvPr/>
          </p:nvSpPr>
          <p:spPr>
            <a:xfrm>
              <a:off x="7613640" y="43560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Picture 48" descr="addin_tmp.png"/>
          <p:cNvPicPr/>
          <p:nvPr/>
        </p:nvPicPr>
        <p:blipFill>
          <a:blip r:embed="rId4"/>
          <a:stretch/>
        </p:blipFill>
        <p:spPr>
          <a:xfrm>
            <a:off x="5218200" y="2265480"/>
            <a:ext cx="722160" cy="2556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9" descr="addin_tmp.png"/>
          <p:cNvPicPr/>
          <p:nvPr/>
        </p:nvPicPr>
        <p:blipFill>
          <a:blip r:embed="rId5"/>
          <a:stretch/>
        </p:blipFill>
        <p:spPr>
          <a:xfrm>
            <a:off x="8610480" y="4495680"/>
            <a:ext cx="77760" cy="1605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0" descr="addin_tmp.png"/>
          <p:cNvPicPr/>
          <p:nvPr/>
        </p:nvPicPr>
        <p:blipFill>
          <a:blip r:embed="rId6"/>
          <a:stretch/>
        </p:blipFill>
        <p:spPr>
          <a:xfrm>
            <a:off x="4952880" y="4495680"/>
            <a:ext cx="106560" cy="1717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2" descr="addin_tmp.png"/>
          <p:cNvPicPr/>
          <p:nvPr/>
        </p:nvPicPr>
        <p:blipFill>
          <a:blip r:embed="rId7"/>
          <a:stretch/>
        </p:blipFill>
        <p:spPr>
          <a:xfrm>
            <a:off x="533520" y="4114800"/>
            <a:ext cx="129960" cy="1159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3" descr="addin_tmp.png"/>
          <p:cNvPicPr/>
          <p:nvPr/>
        </p:nvPicPr>
        <p:blipFill>
          <a:blip r:embed="rId8"/>
          <a:stretch/>
        </p:blipFill>
        <p:spPr>
          <a:xfrm>
            <a:off x="1143000" y="3809880"/>
            <a:ext cx="142920" cy="179640"/>
          </a:xfrm>
          <a:prstGeom prst="rect">
            <a:avLst/>
          </a:prstGeom>
          <a:ln w="0">
            <a:noFill/>
          </a:ln>
        </p:spPr>
      </p:pic>
      <p:sp>
        <p:nvSpPr>
          <p:cNvPr id="616" name="Slide Number Placeholder 24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B9B-7431-45A8-A62B-6C62759ECF6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ooter Placeholder 26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4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oots can occur only inside cells that contain the surf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ples of surface cells have differing sig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traversal algorithm to identify surface cells that are pierced by the ray in front-to-back ord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nested 3D-DDAs for coarse/fine grid travers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rform root-finding in each visited surface ce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2" descr="D:\jzq\sbg3.png"/>
          <p:cNvPicPr/>
          <p:nvPr/>
        </p:nvPicPr>
        <p:blipFill>
          <a:blip r:embed="rId1"/>
          <a:stretch/>
        </p:blipFill>
        <p:spPr>
          <a:xfrm>
            <a:off x="1905120" y="2209680"/>
            <a:ext cx="20574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620" name="Group 9"/>
          <p:cNvGrpSpPr/>
          <p:nvPr/>
        </p:nvGrpSpPr>
        <p:grpSpPr>
          <a:xfrm>
            <a:off x="4648320" y="2057400"/>
            <a:ext cx="2361960" cy="2362320"/>
            <a:chOff x="4648320" y="2057400"/>
            <a:chExt cx="2361960" cy="2362320"/>
          </a:xfrm>
        </p:grpSpPr>
        <p:pic>
          <p:nvPicPr>
            <p:cNvPr id="621" name="Picture 2" descr="D:\jzq\surfcell4.png"/>
            <p:cNvPicPr/>
            <p:nvPr/>
          </p:nvPicPr>
          <p:blipFill>
            <a:blip r:embed="rId2"/>
            <a:stretch/>
          </p:blipFill>
          <p:spPr>
            <a:xfrm>
              <a:off x="4648320" y="2057400"/>
              <a:ext cx="236196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Box 5"/>
            <p:cNvSpPr/>
            <p:nvPr/>
          </p:nvSpPr>
          <p:spPr>
            <a:xfrm>
              <a:off x="5470560" y="2839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Box 6"/>
            <p:cNvSpPr/>
            <p:nvPr/>
          </p:nvSpPr>
          <p:spPr>
            <a:xfrm>
              <a:off x="6264000" y="3605040"/>
              <a:ext cx="25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TextBox 7"/>
            <p:cNvSpPr/>
            <p:nvPr/>
          </p:nvSpPr>
          <p:spPr>
            <a:xfrm>
              <a:off x="6264000" y="2839320"/>
              <a:ext cx="25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TextBox 8"/>
            <p:cNvSpPr/>
            <p:nvPr/>
          </p:nvSpPr>
          <p:spPr>
            <a:xfrm>
              <a:off x="5454720" y="360504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y-surface inter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10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BB35-BAD3-4082-AD78-F7F50C414F3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11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d trave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traverse blocks of the coarse gr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D:\jzq\trav0.png"/>
          <p:cNvPicPr/>
          <p:nvPr/>
        </p:nvPicPr>
        <p:blipFill>
          <a:blip r:embed="rId1"/>
          <a:stretch/>
        </p:blipFill>
        <p:spPr>
          <a:xfrm>
            <a:off x="2286000" y="1676520"/>
            <a:ext cx="4648320" cy="46479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24"/>
          <p:cNvSpPr/>
          <p:nvPr/>
        </p:nvSpPr>
        <p:spPr>
          <a:xfrm>
            <a:off x="2298600" y="4000680"/>
            <a:ext cx="584280" cy="5713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36"/>
          <p:cNvSpPr/>
          <p:nvPr/>
        </p:nvSpPr>
        <p:spPr>
          <a:xfrm>
            <a:off x="2871720" y="4000680"/>
            <a:ext cx="584280" cy="5713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37"/>
          <p:cNvSpPr/>
          <p:nvPr/>
        </p:nvSpPr>
        <p:spPr>
          <a:xfrm>
            <a:off x="3448080" y="4000680"/>
            <a:ext cx="584280" cy="5713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38"/>
          <p:cNvSpPr/>
          <p:nvPr/>
        </p:nvSpPr>
        <p:spPr>
          <a:xfrm>
            <a:off x="3448080" y="3429000"/>
            <a:ext cx="584280" cy="571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4029120" y="3429000"/>
            <a:ext cx="584280" cy="571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44"/>
          <p:cNvSpPr/>
          <p:nvPr/>
        </p:nvSpPr>
        <p:spPr>
          <a:xfrm>
            <a:off x="4610160" y="3429000"/>
            <a:ext cx="584280" cy="571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traight Connector 57"/>
          <p:cNvSpPr/>
          <p:nvPr/>
        </p:nvSpPr>
        <p:spPr>
          <a:xfrm flipV="1">
            <a:off x="1752480" y="3124080"/>
            <a:ext cx="5562720" cy="137160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traight Connector 56"/>
          <p:cNvSpPr/>
          <p:nvPr/>
        </p:nvSpPr>
        <p:spPr>
          <a:xfrm flipV="1">
            <a:off x="1752480" y="3124080"/>
            <a:ext cx="556272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12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C20A-2B1B-4B4F-9100-E9C6D509B48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13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d trave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Picture 2" descr="D:\jzq\trav0.png"/>
          <p:cNvPicPr/>
          <p:nvPr/>
        </p:nvPicPr>
        <p:blipFill>
          <a:blip r:embed="rId1"/>
          <a:stretch/>
        </p:blipFill>
        <p:spPr>
          <a:xfrm>
            <a:off x="2286000" y="1676520"/>
            <a:ext cx="4648320" cy="46479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4"/>
          <p:cNvSpPr/>
          <p:nvPr/>
        </p:nvSpPr>
        <p:spPr>
          <a:xfrm>
            <a:off x="2298600" y="4000680"/>
            <a:ext cx="584280" cy="5713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36"/>
          <p:cNvSpPr/>
          <p:nvPr/>
        </p:nvSpPr>
        <p:spPr>
          <a:xfrm>
            <a:off x="2871720" y="4000680"/>
            <a:ext cx="584280" cy="5713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37"/>
          <p:cNvSpPr/>
          <p:nvPr/>
        </p:nvSpPr>
        <p:spPr>
          <a:xfrm>
            <a:off x="3448080" y="4000680"/>
            <a:ext cx="584280" cy="5713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38"/>
          <p:cNvSpPr/>
          <p:nvPr/>
        </p:nvSpPr>
        <p:spPr>
          <a:xfrm>
            <a:off x="3448080" y="3429000"/>
            <a:ext cx="584280" cy="571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43"/>
          <p:cNvSpPr/>
          <p:nvPr/>
        </p:nvSpPr>
        <p:spPr>
          <a:xfrm>
            <a:off x="4029120" y="3429000"/>
            <a:ext cx="584280" cy="571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44"/>
          <p:cNvSpPr/>
          <p:nvPr/>
        </p:nvSpPr>
        <p:spPr>
          <a:xfrm>
            <a:off x="4610160" y="3429000"/>
            <a:ext cx="584280" cy="571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45"/>
          <p:cNvSpPr/>
          <p:nvPr/>
        </p:nvSpPr>
        <p:spPr>
          <a:xfrm>
            <a:off x="4611600" y="3708360"/>
            <a:ext cx="142920" cy="1429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46"/>
          <p:cNvSpPr/>
          <p:nvPr/>
        </p:nvSpPr>
        <p:spPr>
          <a:xfrm>
            <a:off x="4753080" y="3708360"/>
            <a:ext cx="142920" cy="1429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1"/>
          <p:cNvSpPr/>
          <p:nvPr/>
        </p:nvSpPr>
        <p:spPr>
          <a:xfrm>
            <a:off x="4900680" y="3562200"/>
            <a:ext cx="142920" cy="1429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54"/>
          <p:cNvSpPr/>
          <p:nvPr/>
        </p:nvSpPr>
        <p:spPr>
          <a:xfrm>
            <a:off x="5046840" y="3562200"/>
            <a:ext cx="142560" cy="1429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47"/>
          <p:cNvSpPr/>
          <p:nvPr/>
        </p:nvSpPr>
        <p:spPr>
          <a:xfrm>
            <a:off x="4757760" y="3565440"/>
            <a:ext cx="142920" cy="1429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traight Connector 57"/>
          <p:cNvSpPr/>
          <p:nvPr/>
        </p:nvSpPr>
        <p:spPr>
          <a:xfrm flipV="1">
            <a:off x="1752480" y="3124080"/>
            <a:ext cx="5562720" cy="137160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56"/>
          <p:cNvSpPr/>
          <p:nvPr/>
        </p:nvSpPr>
        <p:spPr>
          <a:xfrm flipV="1">
            <a:off x="1752480" y="3124080"/>
            <a:ext cx="556272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17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78C6-2A5C-4CA0-A453-E23DA8794F5B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18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5043600" y="3565440"/>
            <a:ext cx="142920" cy="1429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Content Placeholder 2"/>
          <p:cNvSpPr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n surface block is entered, traverse cells of its sub-gr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3" descr="D:\jzq\surfcellisect2.png"/>
          <p:cNvPicPr/>
          <p:nvPr/>
        </p:nvPicPr>
        <p:blipFill>
          <a:blip r:embed="rId1"/>
          <a:stretch/>
        </p:blipFill>
        <p:spPr>
          <a:xfrm>
            <a:off x="1523880" y="1836720"/>
            <a:ext cx="6180120" cy="2514600"/>
          </a:xfrm>
          <a:prstGeom prst="rect">
            <a:avLst/>
          </a:prstGeom>
          <a:ln w="0">
            <a:noFill/>
          </a:ln>
        </p:spPr>
      </p:pic>
      <p:sp>
        <p:nvSpPr>
          <p:cNvPr id="662" name="Straight Connector 11"/>
          <p:cNvSpPr/>
          <p:nvPr/>
        </p:nvSpPr>
        <p:spPr>
          <a:xfrm flipH="1">
            <a:off x="6111360" y="3184560"/>
            <a:ext cx="1800" cy="114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cell inter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Interpolate     at points where ray enters and exits the ce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If signs differ, ray intersects the surf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et the intersection point in the middle of line seg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Oval 8"/>
          <p:cNvSpPr/>
          <p:nvPr/>
        </p:nvSpPr>
        <p:spPr>
          <a:xfrm>
            <a:off x="6039000" y="31114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Oval 9"/>
          <p:cNvSpPr/>
          <p:nvPr/>
        </p:nvSpPr>
        <p:spPr>
          <a:xfrm>
            <a:off x="2765520" y="302436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23" descr="addin_tmp.png"/>
          <p:cNvPicPr/>
          <p:nvPr/>
        </p:nvPicPr>
        <p:blipFill>
          <a:blip r:embed="rId2"/>
          <a:stretch/>
        </p:blipFill>
        <p:spPr>
          <a:xfrm>
            <a:off x="5918040" y="4343400"/>
            <a:ext cx="344520" cy="198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5" descr="addin_tmp.png"/>
          <p:cNvPicPr/>
          <p:nvPr/>
        </p:nvPicPr>
        <p:blipFill>
          <a:blip r:embed="rId3"/>
          <a:stretch/>
        </p:blipFill>
        <p:spPr>
          <a:xfrm>
            <a:off x="5095800" y="1808280"/>
            <a:ext cx="722520" cy="2556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6" descr="addin_tmp.png"/>
          <p:cNvPicPr/>
          <p:nvPr/>
        </p:nvPicPr>
        <p:blipFill>
          <a:blip r:embed="rId4"/>
          <a:stretch/>
        </p:blipFill>
        <p:spPr>
          <a:xfrm>
            <a:off x="1574640" y="3149640"/>
            <a:ext cx="274680" cy="198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7" descr="addin_tmp.png"/>
          <p:cNvPicPr/>
          <p:nvPr/>
        </p:nvPicPr>
        <p:blipFill>
          <a:blip r:embed="rId5"/>
          <a:stretch/>
        </p:blipFill>
        <p:spPr>
          <a:xfrm>
            <a:off x="4800600" y="4351320"/>
            <a:ext cx="274680" cy="198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9" descr="addin_tmp.png"/>
          <p:cNvPicPr/>
          <p:nvPr/>
        </p:nvPicPr>
        <p:blipFill>
          <a:blip r:embed="rId6"/>
          <a:stretch/>
        </p:blipFill>
        <p:spPr>
          <a:xfrm>
            <a:off x="7010280" y="4351320"/>
            <a:ext cx="373320" cy="1983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0" descr="addin_tmp.png"/>
          <p:cNvPicPr/>
          <p:nvPr/>
        </p:nvPicPr>
        <p:blipFill>
          <a:blip r:embed="rId7"/>
          <a:stretch/>
        </p:blipFill>
        <p:spPr>
          <a:xfrm>
            <a:off x="3809880" y="2827440"/>
            <a:ext cx="373320" cy="1983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1" descr="addin_tmp.png"/>
          <p:cNvPicPr/>
          <p:nvPr/>
        </p:nvPicPr>
        <p:blipFill>
          <a:blip r:embed="rId8"/>
          <a:stretch/>
        </p:blipFill>
        <p:spPr>
          <a:xfrm>
            <a:off x="2562120" y="2752560"/>
            <a:ext cx="344520" cy="198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2" descr="addin_tmp.png"/>
          <p:cNvPicPr/>
          <p:nvPr/>
        </p:nvPicPr>
        <p:blipFill>
          <a:blip r:embed="rId9"/>
          <a:stretch/>
        </p:blipFill>
        <p:spPr>
          <a:xfrm>
            <a:off x="7550280" y="4305240"/>
            <a:ext cx="77760" cy="160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53" descr="addin_tmp.png"/>
          <p:cNvPicPr/>
          <p:nvPr/>
        </p:nvPicPr>
        <p:blipFill>
          <a:blip r:embed="rId10"/>
          <a:stretch/>
        </p:blipFill>
        <p:spPr>
          <a:xfrm>
            <a:off x="4673520" y="3098880"/>
            <a:ext cx="106560" cy="171360"/>
          </a:xfrm>
          <a:prstGeom prst="rect">
            <a:avLst/>
          </a:prstGeom>
          <a:ln w="0">
            <a:noFill/>
          </a:ln>
        </p:spPr>
      </p:pic>
      <p:sp>
        <p:nvSpPr>
          <p:cNvPr id="676" name="Straight Connector 54"/>
          <p:cNvSpPr/>
          <p:nvPr/>
        </p:nvSpPr>
        <p:spPr>
          <a:xfrm flipH="1">
            <a:off x="7225920" y="3174840"/>
            <a:ext cx="3240" cy="114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17" descr="addin_tmp.png"/>
          <p:cNvPicPr/>
          <p:nvPr/>
        </p:nvPicPr>
        <p:blipFill>
          <a:blip r:embed="rId11"/>
          <a:stretch/>
        </p:blipFill>
        <p:spPr>
          <a:xfrm>
            <a:off x="2311560" y="4794120"/>
            <a:ext cx="182520" cy="308160"/>
          </a:xfrm>
          <a:prstGeom prst="rect">
            <a:avLst/>
          </a:prstGeom>
          <a:ln w="0">
            <a:noFill/>
          </a:ln>
        </p:spPr>
      </p:pic>
      <p:sp>
        <p:nvSpPr>
          <p:cNvPr id="678" name="Slide Number Placeholder 18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4C05-2236-4ED8-9DFE-A59B8A9965E2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Content Placeholder 16"/>
          <p:cNvSpPr/>
          <p:nvPr/>
        </p:nvSpPr>
        <p:spPr>
          <a:xfrm>
            <a:off x="228600" y="11430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dpoint meth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21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3" descr="D:\jzq\surfcellisect2.png"/>
          <p:cNvPicPr/>
          <p:nvPr/>
        </p:nvPicPr>
        <p:blipFill>
          <a:blip r:embed="rId1"/>
          <a:stretch/>
        </p:blipFill>
        <p:spPr>
          <a:xfrm>
            <a:off x="1523880" y="1836720"/>
            <a:ext cx="6180120" cy="2514600"/>
          </a:xfrm>
          <a:prstGeom prst="rect">
            <a:avLst/>
          </a:prstGeom>
          <a:ln w="0">
            <a:noFill/>
          </a:ln>
        </p:spPr>
      </p:pic>
      <p:sp>
        <p:nvSpPr>
          <p:cNvPr id="682" name="Straight Connector 39"/>
          <p:cNvSpPr/>
          <p:nvPr/>
        </p:nvSpPr>
        <p:spPr>
          <a:xfrm flipH="1">
            <a:off x="5791320" y="2370240"/>
            <a:ext cx="2880" cy="81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11"/>
          <p:cNvSpPr/>
          <p:nvPr/>
        </p:nvSpPr>
        <p:spPr>
          <a:xfrm flipH="1">
            <a:off x="5793840" y="3184560"/>
            <a:ext cx="1800" cy="114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cell inter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traight Connector 5"/>
          <p:cNvSpPr/>
          <p:nvPr/>
        </p:nvSpPr>
        <p:spPr>
          <a:xfrm>
            <a:off x="4933800" y="2698920"/>
            <a:ext cx="2252880" cy="1247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5716440" y="309708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9"/>
          <p:cNvSpPr/>
          <p:nvPr/>
        </p:nvSpPr>
        <p:spPr>
          <a:xfrm>
            <a:off x="2475000" y="31258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23" descr="addin_tmp.png"/>
          <p:cNvPicPr/>
          <p:nvPr/>
        </p:nvPicPr>
        <p:blipFill>
          <a:blip r:embed="rId2"/>
          <a:stretch/>
        </p:blipFill>
        <p:spPr>
          <a:xfrm>
            <a:off x="5638680" y="4351320"/>
            <a:ext cx="344520" cy="1983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5" descr="addin_tmp.png"/>
          <p:cNvPicPr/>
          <p:nvPr/>
        </p:nvPicPr>
        <p:blipFill>
          <a:blip r:embed="rId3"/>
          <a:stretch/>
        </p:blipFill>
        <p:spPr>
          <a:xfrm>
            <a:off x="5095800" y="1808280"/>
            <a:ext cx="722520" cy="2556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6" descr="addin_tmp.png"/>
          <p:cNvPicPr/>
          <p:nvPr/>
        </p:nvPicPr>
        <p:blipFill>
          <a:blip r:embed="rId4"/>
          <a:stretch/>
        </p:blipFill>
        <p:spPr>
          <a:xfrm>
            <a:off x="1574640" y="3149640"/>
            <a:ext cx="274680" cy="1983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7" descr="addin_tmp.png"/>
          <p:cNvPicPr/>
          <p:nvPr/>
        </p:nvPicPr>
        <p:blipFill>
          <a:blip r:embed="rId5"/>
          <a:stretch/>
        </p:blipFill>
        <p:spPr>
          <a:xfrm>
            <a:off x="4800600" y="4351320"/>
            <a:ext cx="274680" cy="198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9" descr="addin_tmp.png"/>
          <p:cNvPicPr/>
          <p:nvPr/>
        </p:nvPicPr>
        <p:blipFill>
          <a:blip r:embed="rId6"/>
          <a:stretch/>
        </p:blipFill>
        <p:spPr>
          <a:xfrm>
            <a:off x="7010280" y="4351320"/>
            <a:ext cx="373320" cy="1983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0" descr="addin_tmp.png"/>
          <p:cNvPicPr/>
          <p:nvPr/>
        </p:nvPicPr>
        <p:blipFill>
          <a:blip r:embed="rId7"/>
          <a:stretch/>
        </p:blipFill>
        <p:spPr>
          <a:xfrm>
            <a:off x="3809880" y="2827440"/>
            <a:ext cx="373320" cy="198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1" descr="addin_tmp.png"/>
          <p:cNvPicPr/>
          <p:nvPr/>
        </p:nvPicPr>
        <p:blipFill>
          <a:blip r:embed="rId8"/>
          <a:stretch/>
        </p:blipFill>
        <p:spPr>
          <a:xfrm>
            <a:off x="2286000" y="2865600"/>
            <a:ext cx="344520" cy="198360"/>
          </a:xfrm>
          <a:prstGeom prst="rect">
            <a:avLst/>
          </a:prstGeom>
          <a:ln w="0">
            <a:noFill/>
          </a:ln>
        </p:spPr>
      </p:pic>
      <p:sp>
        <p:nvSpPr>
          <p:cNvPr id="695" name="Oval 41"/>
          <p:cNvSpPr/>
          <p:nvPr/>
        </p:nvSpPr>
        <p:spPr>
          <a:xfrm>
            <a:off x="5715000" y="229392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traight Connector 42"/>
          <p:cNvSpPr/>
          <p:nvPr/>
        </p:nvSpPr>
        <p:spPr>
          <a:xfrm>
            <a:off x="5800680" y="2379600"/>
            <a:ext cx="1400400" cy="1590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traight Connector 47"/>
          <p:cNvSpPr/>
          <p:nvPr/>
        </p:nvSpPr>
        <p:spPr>
          <a:xfrm flipH="1">
            <a:off x="6517800" y="3198960"/>
            <a:ext cx="1800" cy="114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6445080" y="311292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6"/>
          <p:cNvSpPr/>
          <p:nvPr/>
        </p:nvSpPr>
        <p:spPr>
          <a:xfrm>
            <a:off x="3041640" y="2905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49" descr="addin_tmp.png"/>
          <p:cNvPicPr/>
          <p:nvPr/>
        </p:nvPicPr>
        <p:blipFill>
          <a:blip r:embed="rId9"/>
          <a:stretch/>
        </p:blipFill>
        <p:spPr>
          <a:xfrm>
            <a:off x="2873520" y="2644920"/>
            <a:ext cx="425160" cy="2206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addin_tmp.png"/>
          <p:cNvPicPr/>
          <p:nvPr/>
        </p:nvPicPr>
        <p:blipFill>
          <a:blip r:embed="rId10"/>
          <a:stretch/>
        </p:blipFill>
        <p:spPr>
          <a:xfrm>
            <a:off x="6324480" y="4351320"/>
            <a:ext cx="427320" cy="2206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2" descr="addin_tmp.png"/>
          <p:cNvPicPr/>
          <p:nvPr/>
        </p:nvPicPr>
        <p:blipFill>
          <a:blip r:embed="rId11"/>
          <a:stretch/>
        </p:blipFill>
        <p:spPr>
          <a:xfrm>
            <a:off x="7550280" y="4305240"/>
            <a:ext cx="77760" cy="1605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3" descr="addin_tmp.png"/>
          <p:cNvPicPr/>
          <p:nvPr/>
        </p:nvPicPr>
        <p:blipFill>
          <a:blip r:embed="rId12"/>
          <a:stretch/>
        </p:blipFill>
        <p:spPr>
          <a:xfrm>
            <a:off x="4673520" y="3098880"/>
            <a:ext cx="106560" cy="1713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 txBox="1"/>
          <p:nvPr/>
        </p:nvSpPr>
        <p:spPr>
          <a:xfrm>
            <a:off x="228600" y="46483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t the intersection to the point where the line connecting interpolated values crosses zer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inement: interpolate new value at the zero-crossing, pick old value with opposite sign and repe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28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31C5-3FD2-4A3C-95EF-968365F2C362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Content Placeholder 16"/>
          <p:cNvSpPr/>
          <p:nvPr/>
        </p:nvSpPr>
        <p:spPr>
          <a:xfrm>
            <a:off x="228600" y="11430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lse position meth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ooter Placeholder 34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normal est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rface normal corresponds to the gradient of dist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e the gradient using combination of finite differences and interpo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polation of differe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fference of interpol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6867-30A6-4201-9C2E-90161ADDDDF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leration of primary 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28600" y="12189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duce the number of traversed bloc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versal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just before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ay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ent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the first surface blo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Stop as soon a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ay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leav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he last surface blo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ute a conservative bounding square of each surface block’s projection onto image pla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rt squares in back-to-front and front-to-back ord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sterize squares’ depths into min-buffer and max-buff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t the starting and stopping value of a ray parameter     based on depths from min/max-buff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8" descr="addin_tmp.png"/>
          <p:cNvPicPr/>
          <p:nvPr/>
        </p:nvPicPr>
        <p:blipFill>
          <a:blip r:embed="rId1"/>
          <a:stretch/>
        </p:blipFill>
        <p:spPr>
          <a:xfrm>
            <a:off x="7872480" y="5057640"/>
            <a:ext cx="96840" cy="200160"/>
          </a:xfrm>
          <a:prstGeom prst="rect">
            <a:avLst/>
          </a:prstGeom>
          <a:ln w="0">
            <a:noFill/>
          </a:ln>
        </p:spPr>
      </p:pic>
      <p:sp>
        <p:nvSpPr>
          <p:cNvPr id="715" name="Slide Number Placeholder 5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266E-AC8F-4D8C-A616-1DD837F936A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ooter Placeholder 6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leration of primary 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D:\jzq\mmb.png"/>
          <p:cNvPicPr/>
          <p:nvPr/>
        </p:nvPicPr>
        <p:blipFill>
          <a:blip r:embed="rId1"/>
          <a:stretch/>
        </p:blipFill>
        <p:spPr>
          <a:xfrm>
            <a:off x="1066680" y="1523880"/>
            <a:ext cx="7034400" cy="4356360"/>
          </a:xfrm>
          <a:prstGeom prst="rect">
            <a:avLst/>
          </a:prstGeom>
          <a:ln w="0">
            <a:noFill/>
          </a:ln>
        </p:spPr>
      </p:pic>
      <p:sp>
        <p:nvSpPr>
          <p:cNvPr id="719" name="TextBox 4"/>
          <p:cNvSpPr/>
          <p:nvPr/>
        </p:nvSpPr>
        <p:spPr>
          <a:xfrm>
            <a:off x="1066680" y="1066680"/>
            <a:ext cx="342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out accele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5"/>
          <p:cNvSpPr/>
          <p:nvPr/>
        </p:nvSpPr>
        <p:spPr>
          <a:xfrm>
            <a:off x="4724280" y="1066680"/>
            <a:ext cx="342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accele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6"/>
          <p:cNvSpPr/>
          <p:nvPr/>
        </p:nvSpPr>
        <p:spPr>
          <a:xfrm>
            <a:off x="1371600" y="5791320"/>
            <a:ext cx="6248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umber of traversal steps per pix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7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7220-233D-43D0-90DC-A841114A0D6E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oter Placeholder 8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leration of primary 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5" name="Picture 2" descr="D:\jzq\mmb.png"/>
          <p:cNvPicPr/>
          <p:nvPr/>
        </p:nvPicPr>
        <p:blipFill>
          <a:blip r:embed="rId1"/>
          <a:stretch/>
        </p:blipFill>
        <p:spPr>
          <a:xfrm>
            <a:off x="1066680" y="1523880"/>
            <a:ext cx="7034400" cy="4356360"/>
          </a:xfrm>
          <a:prstGeom prst="rect">
            <a:avLst/>
          </a:prstGeom>
          <a:ln w="0">
            <a:noFill/>
          </a:ln>
        </p:spPr>
      </p:pic>
      <p:sp>
        <p:nvSpPr>
          <p:cNvPr id="726" name="TextBox 4"/>
          <p:cNvSpPr/>
          <p:nvPr/>
        </p:nvSpPr>
        <p:spPr>
          <a:xfrm>
            <a:off x="1066680" y="1066680"/>
            <a:ext cx="342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out accele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5"/>
          <p:cNvSpPr/>
          <p:nvPr/>
        </p:nvSpPr>
        <p:spPr>
          <a:xfrm>
            <a:off x="4724280" y="1066680"/>
            <a:ext cx="342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accele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6"/>
          <p:cNvSpPr/>
          <p:nvPr/>
        </p:nvSpPr>
        <p:spPr>
          <a:xfrm>
            <a:off x="1066680" y="5791320"/>
            <a:ext cx="701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tal number of traversal ste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7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36CD-EE14-4CE0-AED4-1FDAE3563F30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ooter Placeholder 8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838080" y="5029200"/>
            <a:ext cx="739152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11"/>
          <p:cNvSpPr/>
          <p:nvPr/>
        </p:nvSpPr>
        <p:spPr>
          <a:xfrm>
            <a:off x="1066680" y="5105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91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12"/>
          <p:cNvSpPr/>
          <p:nvPr/>
        </p:nvSpPr>
        <p:spPr>
          <a:xfrm>
            <a:off x="4724280" y="5105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8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2" descr="D:\jzq\df.png"/>
          <p:cNvPicPr/>
          <p:nvPr/>
        </p:nvPicPr>
        <p:blipFill>
          <a:blip r:embed="rId1"/>
          <a:stretch/>
        </p:blipFill>
        <p:spPr>
          <a:xfrm>
            <a:off x="5105520" y="17524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228600" y="13716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licit surface re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gned distance fun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uclidean distance to the closest point on the surf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gative inside, positive out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rface is the zero level se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rmal corresponds to the gradi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7" descr="addin_tmp.png"/>
          <p:cNvPicPr/>
          <p:nvPr/>
        </p:nvPicPr>
        <p:blipFill>
          <a:blip r:embed="rId2"/>
          <a:stretch/>
        </p:blipFill>
        <p:spPr>
          <a:xfrm>
            <a:off x="973080" y="5381640"/>
            <a:ext cx="1752480" cy="280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addin_tmp.png"/>
          <p:cNvPicPr/>
          <p:nvPr/>
        </p:nvPicPr>
        <p:blipFill>
          <a:blip r:embed="rId3"/>
          <a:stretch/>
        </p:blipFill>
        <p:spPr>
          <a:xfrm>
            <a:off x="976320" y="4498920"/>
            <a:ext cx="2265480" cy="281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addin_tmp.png"/>
          <p:cNvPicPr/>
          <p:nvPr/>
        </p:nvPicPr>
        <p:blipFill>
          <a:blip r:embed="rId4"/>
          <a:stretch/>
        </p:blipFill>
        <p:spPr>
          <a:xfrm>
            <a:off x="4173480" y="1963800"/>
            <a:ext cx="182520" cy="307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8" descr="addin_tmp.png"/>
          <p:cNvPicPr/>
          <p:nvPr/>
        </p:nvPicPr>
        <p:blipFill>
          <a:blip r:embed="rId5"/>
          <a:stretch/>
        </p:blipFill>
        <p:spPr>
          <a:xfrm>
            <a:off x="1066680" y="2438280"/>
            <a:ext cx="2363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72"/>
          <p:cNvGrpSpPr/>
          <p:nvPr/>
        </p:nvGrpSpPr>
        <p:grpSpPr>
          <a:xfrm>
            <a:off x="5899320" y="2124360"/>
            <a:ext cx="2728800" cy="2982600"/>
            <a:chOff x="5899320" y="2124360"/>
            <a:chExt cx="2728800" cy="2982600"/>
          </a:xfrm>
        </p:grpSpPr>
        <p:grpSp>
          <p:nvGrpSpPr>
            <p:cNvPr id="507" name="Group 71"/>
            <p:cNvGrpSpPr/>
            <p:nvPr/>
          </p:nvGrpSpPr>
          <p:grpSpPr>
            <a:xfrm>
              <a:off x="5899320" y="3159000"/>
              <a:ext cx="887760" cy="641880"/>
              <a:chOff x="5899320" y="3159000"/>
              <a:chExt cx="887760" cy="641880"/>
            </a:xfrm>
          </p:grpSpPr>
          <p:sp>
            <p:nvSpPr>
              <p:cNvPr id="508" name="Oval 11"/>
              <p:cNvSpPr/>
              <p:nvPr/>
            </p:nvSpPr>
            <p:spPr>
              <a:xfrm>
                <a:off x="6019920" y="35812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509" name="Straight Arrow Connector 14"/>
              <p:cNvCxnSpPr/>
              <p:nvPr/>
            </p:nvCxnSpPr>
            <p:spPr>
              <a:xfrm flipV="1">
                <a:off x="6059880" y="3237480"/>
                <a:ext cx="207000" cy="375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0" name="Right Brace 15"/>
              <p:cNvSpPr/>
              <p:nvPr/>
            </p:nvSpPr>
            <p:spPr>
              <a:xfrm rot="1726200">
                <a:off x="6219720" y="3246840"/>
                <a:ext cx="136080" cy="479880"/>
              </a:xfrm>
              <a:custGeom>
                <a:avLst/>
                <a:gdLst>
                  <a:gd name="textAreaLeft" fmla="*/ 0 w 136080"/>
                  <a:gd name="textAreaRight" fmla="*/ 48960 w 136080"/>
                  <a:gd name="textAreaTop" fmla="*/ 25200 h 479880"/>
                  <a:gd name="textAreaBottom" fmla="*/ 454680 h 47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834"/>
                      <a:pt x="10800" y="3667"/>
                    </a:cubicBezTo>
                    <a:lnTo>
                      <a:pt x="10800" y="7133"/>
                    </a:lnTo>
                    <a:cubicBezTo>
                      <a:pt x="10800" y="8967"/>
                      <a:pt x="16200" y="10800"/>
                      <a:pt x="21600" y="10800"/>
                    </a:cubicBezTo>
                    <a:cubicBezTo>
                      <a:pt x="16200" y="10800"/>
                      <a:pt x="10800" y="12634"/>
                      <a:pt x="10800" y="14467"/>
                    </a:cubicBezTo>
                    <a:lnTo>
                      <a:pt x="10800" y="17933"/>
                    </a:lnTo>
                    <a:cubicBezTo>
                      <a:pt x="10800" y="19767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Oval 20"/>
              <p:cNvSpPr/>
              <p:nvPr/>
            </p:nvSpPr>
            <p:spPr>
              <a:xfrm>
                <a:off x="6251760" y="3159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12" name="Picture 57" descr="addin_tmp.png"/>
              <p:cNvPicPr/>
              <p:nvPr/>
            </p:nvPicPr>
            <p:blipFill>
              <a:blip r:embed="rId6"/>
              <a:stretch/>
            </p:blipFill>
            <p:spPr>
              <a:xfrm>
                <a:off x="5899320" y="3695760"/>
                <a:ext cx="16236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Picture 56" descr="addin_tmp.png"/>
              <p:cNvPicPr/>
              <p:nvPr/>
            </p:nvPicPr>
            <p:blipFill>
              <a:blip r:embed="rId7"/>
              <a:stretch/>
            </p:blipFill>
            <p:spPr>
              <a:xfrm>
                <a:off x="6381720" y="3447720"/>
                <a:ext cx="405360" cy="17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4" name="Group 70"/>
            <p:cNvGrpSpPr/>
            <p:nvPr/>
          </p:nvGrpSpPr>
          <p:grpSpPr>
            <a:xfrm>
              <a:off x="7661160" y="4074840"/>
              <a:ext cx="966960" cy="1032120"/>
              <a:chOff x="7661160" y="4074840"/>
              <a:chExt cx="966960" cy="1032120"/>
            </a:xfrm>
          </p:grpSpPr>
          <p:sp>
            <p:nvSpPr>
              <p:cNvPr id="515" name="Oval 27"/>
              <p:cNvSpPr/>
              <p:nvPr/>
            </p:nvSpPr>
            <p:spPr>
              <a:xfrm>
                <a:off x="8229240" y="48772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516" name="Straight Arrow Connector 28"/>
              <p:cNvCxnSpPr/>
              <p:nvPr/>
            </p:nvCxnSpPr>
            <p:spPr>
              <a:xfrm flipH="1" flipV="1">
                <a:off x="7721640" y="4250520"/>
                <a:ext cx="552240" cy="665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7" name="Oval 32"/>
              <p:cNvSpPr/>
              <p:nvPr/>
            </p:nvSpPr>
            <p:spPr>
              <a:xfrm>
                <a:off x="7661160" y="41817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Right Brace 35"/>
              <p:cNvSpPr/>
              <p:nvPr/>
            </p:nvSpPr>
            <p:spPr>
              <a:xfrm rot="19248600">
                <a:off x="8017200" y="4037760"/>
                <a:ext cx="195480" cy="876240"/>
              </a:xfrm>
              <a:custGeom>
                <a:avLst/>
                <a:gdLst>
                  <a:gd name="textAreaLeft" fmla="*/ 0 w 195480"/>
                  <a:gd name="textAreaRight" fmla="*/ 70560 w 195480"/>
                  <a:gd name="textAreaTop" fmla="*/ 36360 h 876240"/>
                  <a:gd name="textAreaBottom" fmla="*/ 839880 h 87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444"/>
                      <a:pt x="10800" y="2887"/>
                    </a:cubicBezTo>
                    <a:lnTo>
                      <a:pt x="10800" y="7913"/>
                    </a:lnTo>
                    <a:cubicBezTo>
                      <a:pt x="10800" y="9357"/>
                      <a:pt x="16200" y="10800"/>
                      <a:pt x="21600" y="10800"/>
                    </a:cubicBezTo>
                    <a:cubicBezTo>
                      <a:pt x="16200" y="10800"/>
                      <a:pt x="10800" y="12244"/>
                      <a:pt x="10800" y="13687"/>
                    </a:cubicBezTo>
                    <a:lnTo>
                      <a:pt x="10800" y="18713"/>
                    </a:lnTo>
                    <a:cubicBezTo>
                      <a:pt x="10800" y="20157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19" name="Picture 52" descr="addin_tmp.png"/>
              <p:cNvPicPr/>
              <p:nvPr/>
            </p:nvPicPr>
            <p:blipFill>
              <a:blip r:embed="rId8"/>
              <a:stretch/>
            </p:blipFill>
            <p:spPr>
              <a:xfrm>
                <a:off x="8146800" y="4985280"/>
                <a:ext cx="191880" cy="12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0" name="Picture 59" descr="addin_tmp.png"/>
              <p:cNvPicPr/>
              <p:nvPr/>
            </p:nvPicPr>
            <p:blipFill>
              <a:blip r:embed="rId9"/>
              <a:stretch/>
            </p:blipFill>
            <p:spPr>
              <a:xfrm>
                <a:off x="8222760" y="4311720"/>
                <a:ext cx="405360" cy="17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1" name="Group 69"/>
            <p:cNvGrpSpPr/>
            <p:nvPr/>
          </p:nvGrpSpPr>
          <p:grpSpPr>
            <a:xfrm>
              <a:off x="6886440" y="2124360"/>
              <a:ext cx="850680" cy="577080"/>
              <a:chOff x="6886440" y="2124360"/>
              <a:chExt cx="850680" cy="577080"/>
            </a:xfrm>
          </p:grpSpPr>
          <p:sp>
            <p:nvSpPr>
              <p:cNvPr id="522" name="Oval 36"/>
              <p:cNvSpPr/>
              <p:nvPr/>
            </p:nvSpPr>
            <p:spPr>
              <a:xfrm>
                <a:off x="7661160" y="2161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523" name="Straight Arrow Connector 37"/>
              <p:cNvCxnSpPr/>
              <p:nvPr/>
            </p:nvCxnSpPr>
            <p:spPr>
              <a:xfrm flipV="1">
                <a:off x="7510680" y="2237400"/>
                <a:ext cx="168840" cy="27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4" name="Oval 42"/>
              <p:cNvSpPr/>
              <p:nvPr/>
            </p:nvSpPr>
            <p:spPr>
              <a:xfrm>
                <a:off x="7472160" y="2481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Right Brace 45"/>
              <p:cNvSpPr/>
              <p:nvPr/>
            </p:nvSpPr>
            <p:spPr>
              <a:xfrm rot="12823800">
                <a:off x="7429320" y="2138040"/>
                <a:ext cx="155880" cy="347040"/>
              </a:xfrm>
              <a:custGeom>
                <a:avLst/>
                <a:gdLst>
                  <a:gd name="textAreaLeft" fmla="*/ 0 w 155880"/>
                  <a:gd name="textAreaRight" fmla="*/ 56160 w 155880"/>
                  <a:gd name="textAreaTop" fmla="*/ 15480 h 347040"/>
                  <a:gd name="textAreaBottom" fmla="*/ 331560 h 34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541"/>
                      <a:pt x="10800" y="3081"/>
                    </a:cubicBezTo>
                    <a:lnTo>
                      <a:pt x="10800" y="7719"/>
                    </a:lnTo>
                    <a:cubicBezTo>
                      <a:pt x="10800" y="9260"/>
                      <a:pt x="16200" y="10800"/>
                      <a:pt x="21600" y="10800"/>
                    </a:cubicBezTo>
                    <a:cubicBezTo>
                      <a:pt x="16200" y="10800"/>
                      <a:pt x="10800" y="12341"/>
                      <a:pt x="10800" y="13881"/>
                    </a:cubicBezTo>
                    <a:lnTo>
                      <a:pt x="10800" y="18519"/>
                    </a:lnTo>
                    <a:cubicBezTo>
                      <a:pt x="10800" y="2006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6" name="Picture 50" descr="addin_tmp.png"/>
              <p:cNvPicPr/>
              <p:nvPr/>
            </p:nvPicPr>
            <p:blipFill>
              <a:blip r:embed="rId10"/>
              <a:stretch/>
            </p:blipFill>
            <p:spPr>
              <a:xfrm>
                <a:off x="7394400" y="2581200"/>
                <a:ext cx="19044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61" descr="addin_tmp.png"/>
              <p:cNvPicPr/>
              <p:nvPr/>
            </p:nvPicPr>
            <p:blipFill>
              <a:blip r:embed="rId11"/>
              <a:stretch/>
            </p:blipFill>
            <p:spPr>
              <a:xfrm>
                <a:off x="6886440" y="2167920"/>
                <a:ext cx="536040" cy="17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28" name="Group 83"/>
          <p:cNvGrpSpPr/>
          <p:nvPr/>
        </p:nvGrpSpPr>
        <p:grpSpPr>
          <a:xfrm>
            <a:off x="6238800" y="1984320"/>
            <a:ext cx="1656000" cy="1812960"/>
            <a:chOff x="6238800" y="1984320"/>
            <a:chExt cx="1656000" cy="1812960"/>
          </a:xfrm>
        </p:grpSpPr>
        <p:pic>
          <p:nvPicPr>
            <p:cNvPr id="529" name="Picture 81" descr="addin_tmp.png"/>
            <p:cNvPicPr/>
            <p:nvPr/>
          </p:nvPicPr>
          <p:blipFill>
            <a:blip r:embed="rId12"/>
            <a:stretch/>
          </p:blipFill>
          <p:spPr>
            <a:xfrm>
              <a:off x="7302600" y="2646360"/>
              <a:ext cx="592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80" descr="addin_tmp.png"/>
            <p:cNvPicPr/>
            <p:nvPr/>
          </p:nvPicPr>
          <p:blipFill>
            <a:blip r:embed="rId13"/>
            <a:stretch/>
          </p:blipFill>
          <p:spPr>
            <a:xfrm>
              <a:off x="6570720" y="3568680"/>
              <a:ext cx="592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79" descr="addin_tmp.png"/>
            <p:cNvPicPr/>
            <p:nvPr/>
          </p:nvPicPr>
          <p:blipFill>
            <a:blip r:embed="rId14"/>
            <a:stretch/>
          </p:blipFill>
          <p:spPr>
            <a:xfrm>
              <a:off x="6238800" y="1984320"/>
              <a:ext cx="150480" cy="18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Slide Number Placeholder 34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78B1-9FF0-43CE-918C-FC63E8B78F30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8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leration of shadow 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2860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interested in whether or not the shadow ray is occlud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tual points of intersection are not need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ontent Placeholder 2"/>
          <p:cNvSpPr/>
          <p:nvPr/>
        </p:nvSpPr>
        <p:spPr>
          <a:xfrm>
            <a:off x="228600" y="2895480"/>
            <a:ext cx="51814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dified travers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traverse only the coarse gr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rch for potential occlusion by a block that is inside the surf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2" descr="D:\jzq\trav0.png"/>
          <p:cNvPicPr/>
          <p:nvPr/>
        </p:nvPicPr>
        <p:blipFill>
          <a:blip r:embed="rId1"/>
          <a:stretch/>
        </p:blipFill>
        <p:spPr>
          <a:xfrm>
            <a:off x="5334120" y="29718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15"/>
          <p:cNvSpPr/>
          <p:nvPr/>
        </p:nvSpPr>
        <p:spPr>
          <a:xfrm>
            <a:off x="6095880" y="4881600"/>
            <a:ext cx="38268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16"/>
          <p:cNvSpPr/>
          <p:nvPr/>
        </p:nvSpPr>
        <p:spPr>
          <a:xfrm>
            <a:off x="6097680" y="4495680"/>
            <a:ext cx="38412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6100920" y="4110120"/>
            <a:ext cx="382320" cy="36648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Rectangle 18"/>
          <p:cNvSpPr/>
          <p:nvPr/>
        </p:nvSpPr>
        <p:spPr>
          <a:xfrm>
            <a:off x="6478560" y="4114800"/>
            <a:ext cx="38412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19"/>
          <p:cNvSpPr/>
          <p:nvPr/>
        </p:nvSpPr>
        <p:spPr>
          <a:xfrm>
            <a:off x="6478560" y="3733920"/>
            <a:ext cx="384120" cy="36648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20"/>
          <p:cNvSpPr/>
          <p:nvPr/>
        </p:nvSpPr>
        <p:spPr>
          <a:xfrm>
            <a:off x="6859440" y="3733920"/>
            <a:ext cx="384480" cy="36648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21"/>
          <p:cNvSpPr/>
          <p:nvPr/>
        </p:nvSpPr>
        <p:spPr>
          <a:xfrm>
            <a:off x="6859440" y="3352680"/>
            <a:ext cx="38448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traight Connector 28"/>
          <p:cNvSpPr/>
          <p:nvPr/>
        </p:nvSpPr>
        <p:spPr>
          <a:xfrm flipV="1">
            <a:off x="6157800" y="2670120"/>
            <a:ext cx="1386000" cy="223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traight Connector 7"/>
          <p:cNvSpPr/>
          <p:nvPr/>
        </p:nvSpPr>
        <p:spPr>
          <a:xfrm flipV="1">
            <a:off x="6156360" y="2666880"/>
            <a:ext cx="1387440" cy="22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23"/>
          <p:cNvSpPr/>
          <p:nvPr/>
        </p:nvSpPr>
        <p:spPr>
          <a:xfrm>
            <a:off x="6118200" y="4869000"/>
            <a:ext cx="76320" cy="75960"/>
          </a:xfrm>
          <a:prstGeom prst="ellipse">
            <a:avLst/>
          </a:prstGeom>
          <a:solidFill>
            <a:srgbClr val="ff09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Picture 2" descr="D:\jzq\bulb.gif"/>
          <p:cNvPicPr/>
          <p:nvPr/>
        </p:nvPicPr>
        <p:blipFill>
          <a:blip r:embed="rId2"/>
          <a:stretch/>
        </p:blipFill>
        <p:spPr>
          <a:xfrm>
            <a:off x="7391520" y="2209680"/>
            <a:ext cx="471240" cy="408240"/>
          </a:xfrm>
          <a:prstGeom prst="rect">
            <a:avLst/>
          </a:prstGeom>
          <a:ln w="0">
            <a:noFill/>
          </a:ln>
        </p:spPr>
      </p:pic>
      <p:sp>
        <p:nvSpPr>
          <p:cNvPr id="749" name="Slide Number Placeholder 22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ED30-03AC-414D-8617-54B2B3749904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ooter Placeholder 24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5"/>
          <p:cNvSpPr/>
          <p:nvPr/>
        </p:nvSpPr>
        <p:spPr>
          <a:xfrm>
            <a:off x="6858000" y="3352680"/>
            <a:ext cx="382680" cy="3668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4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4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D:\jzq\trav0.png"/>
          <p:cNvPicPr/>
          <p:nvPr/>
        </p:nvPicPr>
        <p:blipFill>
          <a:blip r:embed="rId1"/>
          <a:stretch/>
        </p:blipFill>
        <p:spPr>
          <a:xfrm>
            <a:off x="5334120" y="29718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leration of shadow 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2860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interested in whether or not the shadow ray is occlud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tual points of intersection are not need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ontent Placeholder 2"/>
          <p:cNvSpPr/>
          <p:nvPr/>
        </p:nvSpPr>
        <p:spPr>
          <a:xfrm>
            <a:off x="228600" y="2895480"/>
            <a:ext cx="51814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dified travers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traverse only the coarse gr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rch for potential occlusion by a block that is inside the surf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no occluding block is found after fixed number of steps, restart normal traversal from the first encountered surface blo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6095880" y="4881600"/>
            <a:ext cx="38268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Rectangle 16"/>
          <p:cNvSpPr/>
          <p:nvPr/>
        </p:nvSpPr>
        <p:spPr>
          <a:xfrm>
            <a:off x="6095880" y="4495680"/>
            <a:ext cx="38268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6477120" y="4495680"/>
            <a:ext cx="38232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7238880" y="4495680"/>
            <a:ext cx="38268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19"/>
          <p:cNvSpPr/>
          <p:nvPr/>
        </p:nvSpPr>
        <p:spPr>
          <a:xfrm>
            <a:off x="6858000" y="4495680"/>
            <a:ext cx="38268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20"/>
          <p:cNvSpPr/>
          <p:nvPr/>
        </p:nvSpPr>
        <p:spPr>
          <a:xfrm>
            <a:off x="7620120" y="4495680"/>
            <a:ext cx="38232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21"/>
          <p:cNvSpPr/>
          <p:nvPr/>
        </p:nvSpPr>
        <p:spPr>
          <a:xfrm>
            <a:off x="7620120" y="4114800"/>
            <a:ext cx="38232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Picture 2" descr="D:\jzq\bulb.gif"/>
          <p:cNvPicPr/>
          <p:nvPr/>
        </p:nvPicPr>
        <p:blipFill>
          <a:blip r:embed="rId2"/>
          <a:stretch/>
        </p:blipFill>
        <p:spPr>
          <a:xfrm>
            <a:off x="8532720" y="3987720"/>
            <a:ext cx="471600" cy="40824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26"/>
          <p:cNvSpPr/>
          <p:nvPr/>
        </p:nvSpPr>
        <p:spPr>
          <a:xfrm>
            <a:off x="8001000" y="4114800"/>
            <a:ext cx="382680" cy="3668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28"/>
          <p:cNvSpPr/>
          <p:nvPr/>
        </p:nvSpPr>
        <p:spPr>
          <a:xfrm>
            <a:off x="6859440" y="4686480"/>
            <a:ext cx="93960" cy="918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30"/>
          <p:cNvSpPr/>
          <p:nvPr/>
        </p:nvSpPr>
        <p:spPr>
          <a:xfrm>
            <a:off x="6953400" y="4686480"/>
            <a:ext cx="91800" cy="918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31"/>
          <p:cNvSpPr/>
          <p:nvPr/>
        </p:nvSpPr>
        <p:spPr>
          <a:xfrm>
            <a:off x="7045200" y="4686480"/>
            <a:ext cx="93960" cy="918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32"/>
          <p:cNvSpPr/>
          <p:nvPr/>
        </p:nvSpPr>
        <p:spPr>
          <a:xfrm>
            <a:off x="7048440" y="4587840"/>
            <a:ext cx="92160" cy="93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33"/>
          <p:cNvSpPr/>
          <p:nvPr/>
        </p:nvSpPr>
        <p:spPr>
          <a:xfrm>
            <a:off x="7140600" y="4587840"/>
            <a:ext cx="93600" cy="93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traight Connector 34"/>
          <p:cNvSpPr/>
          <p:nvPr/>
        </p:nvSpPr>
        <p:spPr>
          <a:xfrm flipV="1">
            <a:off x="6159600" y="4336920"/>
            <a:ext cx="2469960" cy="565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6156360" y="4343040"/>
            <a:ext cx="24541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23"/>
          <p:cNvSpPr/>
          <p:nvPr/>
        </p:nvSpPr>
        <p:spPr>
          <a:xfrm>
            <a:off x="6118200" y="4869000"/>
            <a:ext cx="76320" cy="75960"/>
          </a:xfrm>
          <a:prstGeom prst="ellipse">
            <a:avLst/>
          </a:prstGeom>
          <a:solidFill>
            <a:srgbClr val="ff09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40"/>
          <p:cNvSpPr/>
          <p:nvPr/>
        </p:nvSpPr>
        <p:spPr>
          <a:xfrm>
            <a:off x="7024680" y="3710160"/>
            <a:ext cx="1189080" cy="73800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25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352-7717-4722-97BF-53FB6F7D02C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ooter Placeholder 27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Rectangle 29"/>
          <p:cNvSpPr/>
          <p:nvPr/>
        </p:nvSpPr>
        <p:spPr>
          <a:xfrm>
            <a:off x="7153200" y="4587840"/>
            <a:ext cx="93600" cy="936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2" presetSubtype="2">
                                  <p:stCondLst>
                                    <p:cond delay="2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7" dur="6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leration of shadow 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ene with five directional ligh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9" name="Picture 3" descr="D:\jzq\CESCG\draft\figs\shadow_vis.png"/>
          <p:cNvPicPr/>
          <p:nvPr/>
        </p:nvPicPr>
        <p:blipFill>
          <a:blip r:embed="rId1"/>
          <a:stretch/>
        </p:blipFill>
        <p:spPr>
          <a:xfrm>
            <a:off x="228600" y="2362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" descr="D:\jzq\CESCG\draft\figs\shadow_count_without.png"/>
          <p:cNvPicPr/>
          <p:nvPr/>
        </p:nvPicPr>
        <p:blipFill>
          <a:blip r:embed="rId2"/>
          <a:stretch/>
        </p:blipFill>
        <p:spPr>
          <a:xfrm>
            <a:off x="3276720" y="2362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" descr="D:\jzq\CESCG\draft\figs\shadow count with.png"/>
          <p:cNvPicPr/>
          <p:nvPr/>
        </p:nvPicPr>
        <p:blipFill>
          <a:blip r:embed="rId3"/>
          <a:stretch/>
        </p:blipFill>
        <p:spPr>
          <a:xfrm>
            <a:off x="6095880" y="2362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" descr="D:\jzq\ramp.png"/>
          <p:cNvPicPr/>
          <p:nvPr/>
        </p:nvPicPr>
        <p:blipFill>
          <a:blip r:embed="rId4"/>
          <a:stretch/>
        </p:blipFill>
        <p:spPr>
          <a:xfrm>
            <a:off x="3276720" y="5181480"/>
            <a:ext cx="5562360" cy="304920"/>
          </a:xfrm>
          <a:prstGeom prst="rect">
            <a:avLst/>
          </a:prstGeom>
          <a:ln w="0">
            <a:noFill/>
          </a:ln>
        </p:spPr>
      </p:pic>
      <p:sp>
        <p:nvSpPr>
          <p:cNvPr id="783" name="TextBox 9"/>
          <p:cNvSpPr/>
          <p:nvPr/>
        </p:nvSpPr>
        <p:spPr>
          <a:xfrm>
            <a:off x="3276720" y="5715000"/>
            <a:ext cx="556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ber of intersection tests per pix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1149120" y="1905120"/>
            <a:ext cx="84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e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1"/>
          <p:cNvSpPr/>
          <p:nvPr/>
        </p:nvSpPr>
        <p:spPr>
          <a:xfrm>
            <a:off x="3363840" y="1905120"/>
            <a:ext cx="257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out accel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2"/>
          <p:cNvSpPr/>
          <p:nvPr/>
        </p:nvSpPr>
        <p:spPr>
          <a:xfrm>
            <a:off x="6339600" y="1905120"/>
            <a:ext cx="218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accel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3164400" y="5410080"/>
            <a:ext cx="32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4"/>
          <p:cNvSpPr/>
          <p:nvPr/>
        </p:nvSpPr>
        <p:spPr>
          <a:xfrm>
            <a:off x="8346960" y="5486400"/>
            <a:ext cx="70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15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5FA6-4183-4072-A3A7-D8FF7F1310C0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ooter Placeholder 16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leration of shadow 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ene with five directional ligh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Picture 3" descr="D:\jzq\CESCG\draft\figs\shadow_vis.png"/>
          <p:cNvPicPr/>
          <p:nvPr/>
        </p:nvPicPr>
        <p:blipFill>
          <a:blip r:embed="rId1"/>
          <a:stretch/>
        </p:blipFill>
        <p:spPr>
          <a:xfrm>
            <a:off x="228600" y="2362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D:\jzq\CESCG\draft\figs\shadow_count_without.png"/>
          <p:cNvPicPr/>
          <p:nvPr/>
        </p:nvPicPr>
        <p:blipFill>
          <a:blip r:embed="rId2"/>
          <a:stretch/>
        </p:blipFill>
        <p:spPr>
          <a:xfrm>
            <a:off x="3276720" y="2362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5" descr="D:\jzq\CESCG\draft\figs\shadow count with.png"/>
          <p:cNvPicPr/>
          <p:nvPr/>
        </p:nvPicPr>
        <p:blipFill>
          <a:blip r:embed="rId3"/>
          <a:stretch/>
        </p:blipFill>
        <p:spPr>
          <a:xfrm>
            <a:off x="609588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796" name="TextBox 9"/>
          <p:cNvSpPr/>
          <p:nvPr/>
        </p:nvSpPr>
        <p:spPr>
          <a:xfrm>
            <a:off x="3276720" y="5715000"/>
            <a:ext cx="556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number of intersection t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0"/>
          <p:cNvSpPr/>
          <p:nvPr/>
        </p:nvSpPr>
        <p:spPr>
          <a:xfrm>
            <a:off x="1149120" y="1905120"/>
            <a:ext cx="84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e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11"/>
          <p:cNvSpPr/>
          <p:nvPr/>
        </p:nvSpPr>
        <p:spPr>
          <a:xfrm>
            <a:off x="3363840" y="1905120"/>
            <a:ext cx="257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out accel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12"/>
          <p:cNvSpPr/>
          <p:nvPr/>
        </p:nvSpPr>
        <p:spPr>
          <a:xfrm>
            <a:off x="6339600" y="1905120"/>
            <a:ext cx="218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accel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15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B75C-DFEF-4ADA-8DF1-7DE911F571F3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ooter Placeholder 16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7"/>
          <p:cNvSpPr/>
          <p:nvPr/>
        </p:nvSpPr>
        <p:spPr>
          <a:xfrm>
            <a:off x="3276720" y="5181480"/>
            <a:ext cx="2743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42 x 1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8"/>
          <p:cNvSpPr/>
          <p:nvPr/>
        </p:nvSpPr>
        <p:spPr>
          <a:xfrm>
            <a:off x="6095880" y="5181480"/>
            <a:ext cx="2743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294 x 1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Picture 6" descr="bunny2"/>
          <p:cNvPicPr/>
          <p:nvPr/>
        </p:nvPicPr>
        <p:blipFill>
          <a:blip r:embed="rId1"/>
          <a:stretch/>
        </p:blipFill>
        <p:spPr>
          <a:xfrm>
            <a:off x="1523880" y="1066680"/>
            <a:ext cx="6108840" cy="4629240"/>
          </a:xfrm>
          <a:prstGeom prst="rect">
            <a:avLst/>
          </a:prstGeom>
          <a:ln w="0">
            <a:noFill/>
          </a:ln>
        </p:spPr>
      </p:pic>
      <p:sp>
        <p:nvSpPr>
          <p:cNvPr id="806" name="Text Box 8"/>
          <p:cNvSpPr/>
          <p:nvPr/>
        </p:nvSpPr>
        <p:spPr>
          <a:xfrm>
            <a:off x="1143000" y="5840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12x512 - ref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3882600" y="584028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 FPS  @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MD Sempron 1.6 GHz 256 kB L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6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0F02-E24B-427B-997D-80E3817DB5AE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ooter Placeholder 7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1" name="Picture 6" descr="drag1"/>
          <p:cNvPicPr/>
          <p:nvPr/>
        </p:nvPicPr>
        <p:blipFill>
          <a:blip r:embed="rId1"/>
          <a:stretch/>
        </p:blipFill>
        <p:spPr>
          <a:xfrm>
            <a:off x="228600" y="1459080"/>
            <a:ext cx="5472000" cy="37288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7" descr="drag2"/>
          <p:cNvPicPr/>
          <p:nvPr/>
        </p:nvPicPr>
        <p:blipFill>
          <a:blip r:embed="rId2"/>
          <a:stretch/>
        </p:blipFill>
        <p:spPr>
          <a:xfrm>
            <a:off x="5857920" y="1459080"/>
            <a:ext cx="3106800" cy="374472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6"/>
          <p:cNvSpPr/>
          <p:nvPr/>
        </p:nvSpPr>
        <p:spPr>
          <a:xfrm>
            <a:off x="220320" y="549756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12x512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lections and ref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4797000" y="549756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 FPS  @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MD Sempron 1.6 GHz 256 kB L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8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8DC0-D4C7-4236-8C4F-899EEF3AD164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ooter Placeholder 9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28600" y="12193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y tracing of dynamic surfaces represented by distance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parse block grid datastructure for distance field represent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st traversal of the sparse block grid using two-level 3D-DD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erative root-finding for ray-surface inters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celeration techniques for primary and shadow r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active frame rates (4</a:t>
            </a:r>
            <a:r>
              <a:rPr b="0" lang="en-US" sz="4100" spc="-1" strike="noStrike" baseline="-16000">
                <a:solidFill>
                  <a:srgbClr val="000000"/>
                </a:solidFill>
                <a:latin typeface="Calibri"/>
              </a:rPr>
              <a:t>~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 FP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ture work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acceleration structure on top of the sparse block g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U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1198-050E-4B5E-BB15-70EB03756D6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ooter Placeholder 4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Box 5"/>
          <p:cNvSpPr/>
          <p:nvPr/>
        </p:nvSpPr>
        <p:spPr>
          <a:xfrm>
            <a:off x="3061080" y="2819520"/>
            <a:ext cx="274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 on distance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ance field representation can easily handle operations that change surface topolog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ormation in arbitrary vector fie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olean oper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rphological oper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7C80-51D3-4742-925B-93B840CF0A21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D:\jzq\TALK\solid_sculpt\lion3_voxel.jpg"/>
          <p:cNvPicPr/>
          <p:nvPr/>
        </p:nvPicPr>
        <p:blipFill>
          <a:blip r:embed="rId1"/>
          <a:stretch/>
        </p:blipFill>
        <p:spPr>
          <a:xfrm>
            <a:off x="3124080" y="1276200"/>
            <a:ext cx="2895840" cy="2008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D:\Csg_tree.png"/>
          <p:cNvPicPr/>
          <p:nvPr/>
        </p:nvPicPr>
        <p:blipFill>
          <a:blip r:embed="rId2"/>
          <a:stretch/>
        </p:blipFill>
        <p:spPr>
          <a:xfrm>
            <a:off x="380880" y="1276200"/>
            <a:ext cx="2320920" cy="2057400"/>
          </a:xfrm>
          <a:prstGeom prst="rect">
            <a:avLst/>
          </a:prstGeom>
          <a:ln w="0">
            <a:noFill/>
          </a:ln>
        </p:spPr>
      </p:pic>
      <p:sp>
        <p:nvSpPr>
          <p:cNvPr id="541" name="TextBox 5"/>
          <p:cNvSpPr/>
          <p:nvPr/>
        </p:nvSpPr>
        <p:spPr>
          <a:xfrm>
            <a:off x="694440" y="325764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id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3435120" y="325764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umetric sculp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5" descr="D:\jzq\TALK\liquid\sm_f0359.jpg"/>
          <p:cNvPicPr/>
          <p:nvPr/>
        </p:nvPicPr>
        <p:blipFill>
          <a:blip r:embed="rId3"/>
          <a:stretch/>
        </p:blipFill>
        <p:spPr>
          <a:xfrm>
            <a:off x="7620120" y="1276200"/>
            <a:ext cx="1176120" cy="1990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D:\jzq\TALK\liquid\sm_f0057.jpg"/>
          <p:cNvPicPr/>
          <p:nvPr/>
        </p:nvPicPr>
        <p:blipFill>
          <a:blip r:embed="rId4"/>
          <a:stretch/>
        </p:blipFill>
        <p:spPr>
          <a:xfrm>
            <a:off x="6400800" y="1276200"/>
            <a:ext cx="1171440" cy="19814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10"/>
          <p:cNvSpPr/>
          <p:nvPr/>
        </p:nvSpPr>
        <p:spPr>
          <a:xfrm>
            <a:off x="6640200" y="32576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quid sim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7" descr="D:\jzq\TALK\morph_blend\TarMonsterMorph-med.png"/>
          <p:cNvPicPr/>
          <p:nvPr/>
        </p:nvPicPr>
        <p:blipFill>
          <a:blip r:embed="rId5"/>
          <a:stretch/>
        </p:blipFill>
        <p:spPr>
          <a:xfrm>
            <a:off x="6262560" y="4172040"/>
            <a:ext cx="2711520" cy="1371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D:\jzq\TALK\volseg\tease03.jpg"/>
          <p:cNvPicPr/>
          <p:nvPr/>
        </p:nvPicPr>
        <p:blipFill>
          <a:blip r:embed="rId6"/>
          <a:stretch/>
        </p:blipFill>
        <p:spPr>
          <a:xfrm>
            <a:off x="152280" y="4095720"/>
            <a:ext cx="1403640" cy="1523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D:\jzq\TALK\volseg\tease04.jpg"/>
          <p:cNvPicPr/>
          <p:nvPr/>
        </p:nvPicPr>
        <p:blipFill>
          <a:blip r:embed="rId7"/>
          <a:stretch/>
        </p:blipFill>
        <p:spPr>
          <a:xfrm>
            <a:off x="1600200" y="4095720"/>
            <a:ext cx="1403280" cy="15238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15"/>
          <p:cNvSpPr/>
          <p:nvPr/>
        </p:nvSpPr>
        <p:spPr>
          <a:xfrm>
            <a:off x="304920" y="5619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ume seg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10" descr="D:\jzq\TALK\reconst\pelvis.bmp"/>
          <p:cNvPicPr/>
          <p:nvPr/>
        </p:nvPicPr>
        <p:blipFill>
          <a:blip r:embed="rId8"/>
          <a:stretch/>
        </p:blipFill>
        <p:spPr>
          <a:xfrm>
            <a:off x="3124080" y="4172040"/>
            <a:ext cx="2927520" cy="1360440"/>
          </a:xfrm>
          <a:prstGeom prst="rect">
            <a:avLst/>
          </a:prstGeom>
          <a:ln w="0">
            <a:noFill/>
          </a:ln>
        </p:spPr>
      </p:pic>
      <p:sp>
        <p:nvSpPr>
          <p:cNvPr id="551" name="TextBox 17"/>
          <p:cNvSpPr/>
          <p:nvPr/>
        </p:nvSpPr>
        <p:spPr>
          <a:xfrm>
            <a:off x="3359520" y="561960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face reco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8"/>
          <p:cNvSpPr/>
          <p:nvPr/>
        </p:nvSpPr>
        <p:spPr>
          <a:xfrm>
            <a:off x="6259680" y="56196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phing, blending, VF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16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EBDE-1361-49DD-A09E-71A21739530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oter Placeholder 19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nd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steriz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convert the surface into geometric primi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n rasterize resulting primi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sterization is fast (GP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sion is cos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lism is limi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rectly intersect rays with the distance fi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conversion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shadows, reflections and refra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6FD5-CFF7-4C8F-A8DF-3F208CB060F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lement interactive ray tracer that can be used as a high quality rendering front-end for applications that use distance fields to represent dynamic surfa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56A-C5E0-4A2F-8382-32A9A73F9BD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presentation of the distance fun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y-surface interse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rface normal esti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celeration of primary ra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celeration of shadow ra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2143-0EE5-4E7E-B005-A4AC7DBD08F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ooter Placeholder 6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esentation of distan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stance function is sampled on gri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side grid cells a continuous distance function is reconstructed using tri-linear interpol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 applications only need distance value in narrow region around the surfa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4" descr="D:\jzq\dfgrid.png"/>
          <p:cNvPicPr/>
          <p:nvPr/>
        </p:nvPicPr>
        <p:blipFill>
          <a:blip r:embed="rId1"/>
          <a:stretch/>
        </p:blipFill>
        <p:spPr>
          <a:xfrm>
            <a:off x="1295280" y="25909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D:\jzq\interp.png"/>
          <p:cNvPicPr/>
          <p:nvPr/>
        </p:nvPicPr>
        <p:blipFill>
          <a:blip r:embed="rId2"/>
          <a:stretch/>
        </p:blipFill>
        <p:spPr>
          <a:xfrm>
            <a:off x="4797360" y="2409840"/>
            <a:ext cx="2898720" cy="2924280"/>
          </a:xfrm>
          <a:prstGeom prst="rect">
            <a:avLst/>
          </a:prstGeom>
          <a:ln w="0">
            <a:noFill/>
          </a:ln>
        </p:spPr>
      </p:pic>
      <p:sp>
        <p:nvSpPr>
          <p:cNvPr id="571" name="Oval 5"/>
          <p:cNvSpPr/>
          <p:nvPr/>
        </p:nvSpPr>
        <p:spPr>
          <a:xfrm>
            <a:off x="6310440" y="37051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6"/>
          <p:cNvSpPr/>
          <p:nvPr/>
        </p:nvSpPr>
        <p:spPr>
          <a:xfrm>
            <a:off x="2967120" y="3443400"/>
            <a:ext cx="68040" cy="68040"/>
          </a:xfrm>
          <a:prstGeom prst="ellipse">
            <a:avLst/>
          </a:prstGeom>
          <a:solidFill>
            <a:srgbClr val="ff09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3" name="Group 33"/>
          <p:cNvGrpSpPr/>
          <p:nvPr/>
        </p:nvGrpSpPr>
        <p:grpSpPr>
          <a:xfrm>
            <a:off x="5927400" y="3514320"/>
            <a:ext cx="651240" cy="660960"/>
            <a:chOff x="5927400" y="3514320"/>
            <a:chExt cx="651240" cy="660960"/>
          </a:xfrm>
        </p:grpSpPr>
        <p:cxnSp>
          <p:nvCxnSpPr>
            <p:cNvPr id="574" name="Straight Arrow Connector 8"/>
            <p:cNvCxnSpPr/>
            <p:nvPr/>
          </p:nvCxnSpPr>
          <p:spPr>
            <a:xfrm>
              <a:off x="5940360" y="3514320"/>
              <a:ext cx="379440" cy="21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5" name="Straight Arrow Connector 12"/>
            <p:cNvCxnSpPr/>
            <p:nvPr/>
          </p:nvCxnSpPr>
          <p:spPr>
            <a:xfrm flipH="1">
              <a:off x="6452280" y="3549240"/>
              <a:ext cx="126720" cy="160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6" name="Straight Arrow Connector 14"/>
            <p:cNvCxnSpPr/>
            <p:nvPr/>
          </p:nvCxnSpPr>
          <p:spPr>
            <a:xfrm flipV="1">
              <a:off x="5927400" y="3857760"/>
              <a:ext cx="416520" cy="317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Straight Arrow Connector 17"/>
            <p:cNvCxnSpPr/>
            <p:nvPr/>
          </p:nvCxnSpPr>
          <p:spPr>
            <a:xfrm flipH="1" flipV="1">
              <a:off x="6438600" y="3857400"/>
              <a:ext cx="140400" cy="30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8" name="Slide Number Placeholder 13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279B-266E-40C8-8DCB-7D6B0D3BFDC5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ooter Placeholder 15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arse representation of distance fie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Content Placeholder 2"/>
          <p:cNvSpPr/>
          <p:nvPr/>
        </p:nvSpPr>
        <p:spPr>
          <a:xfrm>
            <a:off x="228600" y="1219320"/>
            <a:ext cx="4495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-level gr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arse grid of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block has a fl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rface block has additional pointer to its sub-gr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e sub-grids of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e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s of     are stored at cell ver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6" descr="addin_tmp.png"/>
          <p:cNvPicPr/>
          <p:nvPr/>
        </p:nvPicPr>
        <p:blipFill>
          <a:blip r:embed="rId1"/>
          <a:stretch/>
        </p:blipFill>
        <p:spPr>
          <a:xfrm>
            <a:off x="2381400" y="5019840"/>
            <a:ext cx="149040" cy="250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D:\jzq\sbg3.png"/>
          <p:cNvPicPr/>
          <p:nvPr/>
        </p:nvPicPr>
        <p:blipFill>
          <a:blip r:embed="rId2"/>
          <a:stretch/>
        </p:blipFill>
        <p:spPr>
          <a:xfrm>
            <a:off x="4952880" y="1116000"/>
            <a:ext cx="4038840" cy="40654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D:\jzq\obl.png"/>
          <p:cNvPicPr/>
          <p:nvPr/>
        </p:nvPicPr>
        <p:blipFill>
          <a:blip r:embed="rId3"/>
          <a:stretch/>
        </p:blipFill>
        <p:spPr>
          <a:xfrm>
            <a:off x="4983120" y="5243400"/>
            <a:ext cx="457200" cy="471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D:\jzq\ibl.png"/>
          <p:cNvPicPr/>
          <p:nvPr/>
        </p:nvPicPr>
        <p:blipFill>
          <a:blip r:embed="rId4"/>
          <a:stretch/>
        </p:blipFill>
        <p:spPr>
          <a:xfrm>
            <a:off x="4983120" y="5778360"/>
            <a:ext cx="457200" cy="470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D:\jzq\sbl.png"/>
          <p:cNvPicPr/>
          <p:nvPr/>
        </p:nvPicPr>
        <p:blipFill>
          <a:blip r:embed="rId5"/>
          <a:stretch/>
        </p:blipFill>
        <p:spPr>
          <a:xfrm>
            <a:off x="6959520" y="5226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D:\jzq\scell.png"/>
          <p:cNvPicPr/>
          <p:nvPr/>
        </p:nvPicPr>
        <p:blipFill>
          <a:blip r:embed="rId6"/>
          <a:stretch/>
        </p:blipFill>
        <p:spPr>
          <a:xfrm>
            <a:off x="7072200" y="5842080"/>
            <a:ext cx="314280" cy="3045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8"/>
          <p:cNvSpPr/>
          <p:nvPr/>
        </p:nvSpPr>
        <p:spPr>
          <a:xfrm>
            <a:off x="5456520" y="53085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sid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9"/>
          <p:cNvSpPr/>
          <p:nvPr/>
        </p:nvSpPr>
        <p:spPr>
          <a:xfrm>
            <a:off x="5478480" y="5778360"/>
            <a:ext cx="14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20"/>
          <p:cNvSpPr/>
          <p:nvPr/>
        </p:nvSpPr>
        <p:spPr>
          <a:xfrm>
            <a:off x="7504560" y="53085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21"/>
          <p:cNvSpPr/>
          <p:nvPr/>
        </p:nvSpPr>
        <p:spPr>
          <a:xfrm>
            <a:off x="7504200" y="57913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c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13"/>
          <p:cNvSpPr/>
          <p:nvPr/>
        </p:nvSpPr>
        <p:spPr>
          <a:xfrm>
            <a:off x="7238880" y="6356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D180-1C16-4C28-B6E2-F81CBA5011B2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14"/>
          <p:cNvSpPr/>
          <p:nvPr/>
        </p:nvSpPr>
        <p:spPr>
          <a:xfrm>
            <a:off x="2057400" y="6356520"/>
            <a:ext cx="495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SCG 2010  -  Interactive Ray Tracing of Distance F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50:08Z</dcterms:created>
  <dc:creator>foo bar</dc:creator>
  <dc:description/>
  <dc:language>en-US</dc:language>
  <cp:lastModifiedBy>foo bar</cp:lastModifiedBy>
  <dcterms:modified xsi:type="dcterms:W3CDTF">2010-05-09T00:55:14Z</dcterms:modified>
  <cp:revision>223</cp:revision>
  <dc:subject/>
  <dc:title>Slide 1</dc:title>
</cp:coreProperties>
</file>